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156-65B3-44EF-96CC-F0A49A59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130-1BA4-47A0-BC22-F9DEA399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96FC-CBBD-4ABB-AEF7-89F92493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27F-3FD1-4ADB-80D3-F1968D58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6DFB-C5F3-4A7A-8370-DE8E9408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2BEB-946D-46D7-8819-DB8FAB8E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6738-6041-453F-B4D3-214303CC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F204-B46A-43CB-89D0-6EDF33AB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6A21-4E67-4948-8E8A-3FB2BB44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E40B-C0FA-4831-8077-386F5AF1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C996-5632-4F12-8B5C-07074E5E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D44-5E26-4BA6-AB22-1F2EBBF0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022E-8D3B-475B-AD32-DBAEDA3B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7629-93D0-4879-9D47-EF86015C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0654-48EF-44EA-9A27-A4FAD08C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8263-06D0-4C4C-B5A2-EBFA1234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55EF-0B9A-42B0-9607-F7A3BF71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F36-4E1C-4907-B4C7-90653D67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38C-2B98-40C6-9618-FCCAA16F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1D6-FDE2-4D87-A6B5-B6DCA85E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471-F0E3-40A5-A907-DDEEA85E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90A5-F29D-4FAE-A1D6-3DBAB965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1DD-BC6B-41B0-870B-3806F1BF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D217-7CFF-4E75-98F5-94F6EB38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2CD1-020A-4368-8A4F-92745DBE891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cc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9900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F191-3828-4CF2-BFCC-5C7660436D2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99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9900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tfrancis.edu/ba/ghkickul/stuwebs/bbios/biograph/vanderbi.htm" TargetMode="External"/><Relationship Id="rId2" Type="http://schemas.openxmlformats.org/officeDocument/2006/relationships/hyperlink" Target="http://www.stfrancis.edu/ba/ghkickul/stuwebs/bbios/biograph/vanderbi.htm" TargetMode="External"/><Relationship Id="rId3" Type="http://schemas.openxmlformats.org/officeDocument/2006/relationships/hyperlink" Target="http://www.voteview.com/vanderb2.htm" TargetMode="External"/><Relationship Id="rId4" Type="http://schemas.openxmlformats.org/officeDocument/2006/relationships/hyperlink" Target="http://www.voteview.com/vanderb2.htm" TargetMode="External"/><Relationship Id="rId5" Type="http://schemas.openxmlformats.org/officeDocument/2006/relationships/hyperlink" Target="http://www.u-s-history.com/pages/h845.html" TargetMode="External"/><Relationship Id="rId6" Type="http://schemas.openxmlformats.org/officeDocument/2006/relationships/hyperlink" Target="http://www.nnp.org/nni/Publications/DutchAmerican/vanderbiltc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f461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image" descr=""/>
          <p:cNvPicPr/>
          <p:nvPr/>
        </p:nvPicPr>
        <p:blipFill>
          <a:blip r:embed="rId1"/>
          <a:stretch/>
        </p:blipFill>
        <p:spPr>
          <a:xfrm>
            <a:off x="1447920" y="2743200"/>
            <a:ext cx="2394000" cy="33336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191120" y="42829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Born: May 27, 1794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Died: January 4, 1877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Money He Mad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Used the money to help his railroad busines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Expanded his railroad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Made more vessels for people to travel on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50292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I don't care half so much about making money as I do about making my point, and coming out ahead.” 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--Cornelius Vanderbilt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Impact on Industry or Trad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Vessel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He produced more which made this industry grow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Railroad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He was hardworking, competitive, and reliable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323" name="229616" descr=""/>
          <p:cNvPicPr/>
          <p:nvPr/>
        </p:nvPicPr>
        <p:blipFill>
          <a:blip r:embed="rId1"/>
          <a:stretch/>
        </p:blipFill>
        <p:spPr>
          <a:xfrm>
            <a:off x="6173640" y="2214720"/>
            <a:ext cx="1903680" cy="28908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715000" y="5334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His Statue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086600" y="5105520"/>
            <a:ext cx="0" cy="30456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Impact on the United Stat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Transported more people throughout Eastern United State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onnected his the railroads he had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Works Cited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2214360"/>
            <a:ext cx="8610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Cornelius Vanderbilt, University Of St, Francis, November 27, 2007 &lt;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stfrancis.edu/ba/ghkickul/stuwebs/bbios/biograph/vanderbi.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htm</a:t>
            </a: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Cornelius Vanderbilt, 1997, T. Poole, November 27, 2007 &lt;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http://www.voteview.com/vanderb2.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htm</a:t>
            </a: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Business And Industry; Cornelius Vanderbilt, 2002-2005, Online Highways, November 27, 2007 &lt;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http://www.u-s-history.com/pages/h845.html</a:t>
            </a: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Vanderbilt, Cornelius (1794-1877), The New Netherland Institute, November 27, 2007 &lt;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http://www.nnp.org/nni/Publications/DutchAmerican/vanderbiltc.html</a:t>
            </a:r>
            <a:r>
              <a:rPr b="0" lang="en-US" sz="2000" spc="-1" strike="noStrike">
                <a:solidFill>
                  <a:srgbClr val="9900cc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Business Ev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53 - Built a steam yacht, the North Star, to travel Europe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57 - Became a director of the RR 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67 – December 11</a:t>
            </a:r>
            <a:r>
              <a:rPr b="0" lang="en-US" sz="2200" spc="-1" strike="noStrike" baseline="30000">
                <a:solidFill>
                  <a:srgbClr val="9900cc"/>
                </a:solidFill>
                <a:latin typeface="Times New Roman"/>
              </a:rPr>
              <a:t>th</a:t>
            </a: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 elected to president of the RR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Merged the New York Central, and the Hudson River railroad, gaining profits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68 – made a new and larger freight yard on the western side of Manhattan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By 1869, controlled RR stretching from New York to Chicago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71 - Construction of the first terminal at Grand Central Station began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1871 - Partnership with the New York and New Haven railroads emerged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Industry and Trade Involve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280" y="274788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Steam boat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Leases vessels to the Union Government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Railroads 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Becoming president of the company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296" name="vaneng" descr=""/>
          <p:cNvPicPr/>
          <p:nvPr/>
        </p:nvPicPr>
        <p:blipFill>
          <a:blip r:embed="rId1"/>
          <a:stretch/>
        </p:blipFill>
        <p:spPr>
          <a:xfrm>
            <a:off x="4863960" y="3160800"/>
            <a:ext cx="3903840" cy="2173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arget Marke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New Yorker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Started out for the upper class at $4 per person, but then was lowered to $1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Upped the cost of food on the boat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imes New Roman"/>
              </a:rPr>
              <a:t>Comfortable accommodations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863960" y="2214720"/>
            <a:ext cx="3903840" cy="27381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64832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The Vanderbilt’s Summer Home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781680" y="4952520"/>
            <a:ext cx="0" cy="30492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mpetiti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Daniel Drew - forced out of the vessel industry by Vanderbilt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James Fisk and Jay Gould - Drew’s associates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Drew and Vanderbilt argued over who would let their vessels travel on the Erie river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854680" y="2214720"/>
            <a:ext cx="2222640" cy="25858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486400" y="5181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Daniel Drew</a:t>
            </a:r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086600" y="4800600"/>
            <a:ext cx="0" cy="45720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rizontal Integrati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e spread out his railroad business to different places in the United State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e connected some of his railroad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st Cuts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(Horizontal Integration)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e received more money when he made his business larger and he expanded his busines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Vertical Integrati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Lowered the cost for people to get onto his boat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Made the prices of the food on the boats higher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267080" y="4724280"/>
            <a:ext cx="1575000" cy="1662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st Cuts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(Vertical Integration)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utting the cost to board the boats made it easier for other people to travel on the boats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e received more business by cutting the cost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90720" y="5562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I have been insane on the subject of moneymaking all my life.”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--Cornelius Vanderbilt </a:t>
            </a:r>
            <a:endParaRPr b="0" lang="en-US" sz="2200" spc="-1" strike="noStrike">
              <a:solidFill>
                <a:srgbClr val="9900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9:21:49Z</dcterms:created>
  <dc:creator>STUDENT</dc:creator>
  <dc:description/>
  <dc:language>en-US</dc:language>
  <cp:lastModifiedBy>STUDENT</cp:lastModifiedBy>
  <dcterms:modified xsi:type="dcterms:W3CDTF">2007-11-28T19:41:19Z</dcterms:modified>
  <cp:revision>6</cp:revision>
  <dc:subject/>
  <dc:title>PowerPoint Presentation</dc:title>
</cp:coreProperties>
</file>